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9.wmf" ContentType="image/x-wmf"/>
  <Override PartName="/ppt/media/image1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H%20TCS%20GEN" descr=""/>
          <p:cNvPicPr/>
          <p:nvPr/>
        </p:nvPicPr>
        <p:blipFill>
          <a:blip r:embed="rId2"/>
          <a:stretch/>
        </p:blipFill>
        <p:spPr>
          <a:xfrm>
            <a:off x="5396040" y="6400800"/>
            <a:ext cx="3747960" cy="181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Click to edit the title text format</a:t>
            </a: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1" marL="668520" indent="-257040">
              <a:spcBef>
                <a:spcPts val="901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2" marL="1028520" indent="-20556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3" marL="144000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4" marL="185148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5" marL="185148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lvl="6" marL="1851480" indent="-205560">
              <a:spcBef>
                <a:spcPts val="9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  <p:pic>
        <p:nvPicPr>
          <p:cNvPr id="3" name="TATALOGO-PPT-TEMP" descr=""/>
          <p:cNvPicPr/>
          <p:nvPr/>
        </p:nvPicPr>
        <p:blipFill>
          <a:blip r:embed="rId3"/>
          <a:stretch/>
        </p:blipFill>
        <p:spPr>
          <a:xfrm>
            <a:off x="0" y="6232680"/>
            <a:ext cx="9150480" cy="625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LH%20TCS%20GEN" descr=""/>
          <p:cNvPicPr/>
          <p:nvPr/>
        </p:nvPicPr>
        <p:blipFill>
          <a:blip r:embed="rId3"/>
          <a:stretch/>
        </p:blipFill>
        <p:spPr>
          <a:xfrm>
            <a:off x="5396040" y="6324480"/>
            <a:ext cx="3747960" cy="181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Myriad Roman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2120" y="3657600"/>
            <a:ext cx="80010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Myriad Roman"/>
              </a:rPr>
              <a:t>Addendum to Public Debt Office Computerisation &amp; Negotiated Dealing System (PDO-NDS)</a:t>
            </a:r>
            <a:r>
              <a:rPr b="0" lang="en-US" sz="2800" spc="-1" strike="noStrike">
                <a:solidFill>
                  <a:srgbClr val="cc3300"/>
                </a:solidFill>
                <a:latin typeface="Myriad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ndslogo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5486400" cy="23986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65292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505320" y="228600"/>
          <a:ext cx="1838160" cy="162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5320" y="228600"/>
                    <a:ext cx="183816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91440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Issue Announcement (Contd.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2514600"/>
            <a:ext cx="2743200" cy="685800"/>
          </a:xfrm>
          <a:prstGeom prst="flowChartProcess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F Re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00400" y="4267080"/>
            <a:ext cx="2743200" cy="762120"/>
          </a:xfrm>
          <a:prstGeom prst="flowChartProcess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 B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5640" y="1676520"/>
            <a:ext cx="3613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Issue Type LAF Rep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234600" y="3200400"/>
            <a:ext cx="1261080" cy="1066680"/>
            <a:chOff x="3234600" y="3200400"/>
            <a:chExt cx="1261080" cy="1066680"/>
          </a:xfrm>
        </p:grpSpPr>
        <p:sp>
          <p:nvSpPr>
            <p:cNvPr id="194" name=""/>
            <p:cNvSpPr/>
            <p:nvPr/>
          </p:nvSpPr>
          <p:spPr>
            <a:xfrm>
              <a:off x="4495680" y="320040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34600" y="3505320"/>
              <a:ext cx="123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ontai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80880" y="91440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Issue Announcement (Contd.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24080" y="2514600"/>
            <a:ext cx="2743200" cy="685800"/>
          </a:xfrm>
          <a:prstGeom prst="flowChartProcess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F Reverse Re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4267080"/>
            <a:ext cx="2743200" cy="762120"/>
          </a:xfrm>
          <a:prstGeom prst="flowChartProcess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erse Repo B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9000" y="1676520"/>
            <a:ext cx="4925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Issue Type LAF Reverse Rep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234600" y="3200400"/>
            <a:ext cx="1261080" cy="1066680"/>
            <a:chOff x="3234600" y="3200400"/>
            <a:chExt cx="1261080" cy="1066680"/>
          </a:xfrm>
        </p:grpSpPr>
        <p:sp>
          <p:nvSpPr>
            <p:cNvPr id="201" name=""/>
            <p:cNvSpPr/>
            <p:nvPr/>
          </p:nvSpPr>
          <p:spPr>
            <a:xfrm>
              <a:off x="4495680" y="320040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34600" y="3505320"/>
              <a:ext cx="123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ontai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80880" y="91440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Issue Announcement (Contd.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48120" y="2666880"/>
            <a:ext cx="3352680" cy="1143000"/>
          </a:xfrm>
          <a:prstGeom prst="flowChartProcess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F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F Repo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F Reverse Re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4419720"/>
            <a:ext cx="2743200" cy="761760"/>
          </a:xfrm>
          <a:prstGeom prst="flowChartProcess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86400" y="4419720"/>
            <a:ext cx="2743200" cy="761760"/>
          </a:xfrm>
          <a:prstGeom prst="flowChartProcess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8320" y="1676520"/>
            <a:ext cx="837360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ll these three types issues can be announced in th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llowing wa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415960" y="3809880"/>
            <a:ext cx="2460960" cy="609840"/>
            <a:chOff x="2415960" y="3809880"/>
            <a:chExt cx="2460960" cy="609840"/>
          </a:xfrm>
        </p:grpSpPr>
        <p:sp>
          <p:nvSpPr>
            <p:cNvPr id="209" name=""/>
            <p:cNvSpPr/>
            <p:nvPr/>
          </p:nvSpPr>
          <p:spPr>
            <a:xfrm flipH="1">
              <a:off x="2438280" y="3809880"/>
              <a:ext cx="243864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15960" y="3809880"/>
              <a:ext cx="100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an b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4800600" y="3809880"/>
            <a:ext cx="2193480" cy="609840"/>
            <a:chOff x="4800600" y="3809880"/>
            <a:chExt cx="2193480" cy="609840"/>
          </a:xfrm>
        </p:grpSpPr>
        <p:sp>
          <p:nvSpPr>
            <p:cNvPr id="212" name=""/>
            <p:cNvSpPr/>
            <p:nvPr/>
          </p:nvSpPr>
          <p:spPr>
            <a:xfrm>
              <a:off x="4800600" y="3809880"/>
              <a:ext cx="21934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16240" y="3809880"/>
              <a:ext cx="100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an b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0880" y="91440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Issue Announcement (Contd.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1676520"/>
            <a:ext cx="79250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1828800"/>
            <a:ext cx="769608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sue is created and announced by IDM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message is broadcasted to all the memb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message is displayed in the “Calls and Messages” window under Issue Announcements &amp; Results n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uble click on the corresponding issue to see the details of the iss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 Open the same from Announcement messages wind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rimary Market --&gt; Announcement Messag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5333760" cy="3965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80880" y="91440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Issue Announcement (Contd.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9520" y="1600200"/>
            <a:ext cx="51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Message in Calls and Messages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80880" y="91440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Issue Announcement (Contd.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3824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9600" y="1600200"/>
            <a:ext cx="534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Issue details screen showing issue deta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4952880"/>
            <a:ext cx="1028880" cy="343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14800" y="5638680"/>
            <a:ext cx="1800360" cy="5619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can click this to go to the Subscriptio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46700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752480" y="1981080"/>
          <a:ext cx="5143680" cy="33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143680" cy="33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0" y="14670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724280" y="5181480"/>
            <a:ext cx="457200" cy="495360"/>
          </a:xfrm>
          <a:prstGeom prst="downArrow">
            <a:avLst>
              <a:gd name="adj1" fmla="val 50000"/>
              <a:gd name="adj2" fmla="val 2708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3824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91440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Issue Announcement (Contd.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7120" y="1600200"/>
            <a:ext cx="87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Opening Issue details screen from Announcement Messages wind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3824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938240" y="2066760"/>
            <a:ext cx="5267520" cy="3953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1676520" y="2133720"/>
          <a:ext cx="5476680" cy="32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133720"/>
                    <a:ext cx="5476680" cy="32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193824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880" y="91440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Issue Announcement (Contd.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5560" y="1600200"/>
            <a:ext cx="798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nnouncement messages screen showing different issue typ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93824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7956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87400" y="180036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87400" y="180036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4038480" y="3200400"/>
            <a:ext cx="1324080" cy="628200"/>
            <a:chOff x="4038480" y="3200400"/>
            <a:chExt cx="1324080" cy="628200"/>
          </a:xfrm>
        </p:grpSpPr>
        <p:sp>
          <p:nvSpPr>
            <p:cNvPr id="245" name=""/>
            <p:cNvSpPr/>
            <p:nvPr/>
          </p:nvSpPr>
          <p:spPr>
            <a:xfrm>
              <a:off x="4038480" y="3200400"/>
              <a:ext cx="1324080" cy="609480"/>
            </a:xfrm>
            <a:prstGeom prst="borderCallout2">
              <a:avLst>
                <a:gd name="adj1" fmla="val 18750"/>
                <a:gd name="adj2" fmla="val -8333"/>
                <a:gd name="adj3" fmla="val 18518"/>
                <a:gd name="adj4" fmla="val -36833"/>
                <a:gd name="adj5" fmla="val 57814"/>
                <a:gd name="adj6" fmla="val -68347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000000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ight Click here to go to the subscription fo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038480" y="3219120"/>
              <a:ext cx="1324080" cy="609480"/>
            </a:xfrm>
            <a:prstGeom prst="borderCallout2">
              <a:avLst>
                <a:gd name="adj1" fmla="val 18750"/>
                <a:gd name="adj2" fmla="val -8333"/>
                <a:gd name="adj3" fmla="val 18518"/>
                <a:gd name="adj4" fmla="val -16115"/>
                <a:gd name="adj5" fmla="val 125000"/>
                <a:gd name="adj6" fmla="val -26620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000000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ight Click here to go to the subscrip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38480" y="3200400"/>
              <a:ext cx="1324080" cy="609480"/>
            </a:xfrm>
            <a:prstGeom prst="borderCallout2">
              <a:avLst>
                <a:gd name="adj1" fmla="val 18750"/>
                <a:gd name="adj2" fmla="val -8333"/>
                <a:gd name="adj3" fmla="val 18518"/>
                <a:gd name="adj4" fmla="val -27194"/>
                <a:gd name="adj5" fmla="val 95314"/>
                <a:gd name="adj6" fmla="val -48921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000000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ight Click here to go to the subscrip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76320" y="914400"/>
            <a:ext cx="9067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Placing B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1600200"/>
            <a:ext cx="826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Placing the Repo bids for fixed rate iss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2120" y="2209680"/>
            <a:ext cx="7696080" cy="35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n the bid screen from issue details scre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er face value appli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mit the Bi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second level authorization – Check the status of the Bid -  Approve/Reject/Resend it from different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rimary Market --&gt; Subscription li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6320" y="914400"/>
            <a:ext cx="9067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Placing Bids (Contd.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8600" y="1600200"/>
            <a:ext cx="826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Placing the Repo bids for variable rate iss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62120" y="2209680"/>
            <a:ext cx="7696080" cy="35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n the bid screen from issue details scre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er the Bid detai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er Repo rate &amp; face value appli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mit the Bi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second level authorization – Check the status of the Bid -  Approve/Reject/Resend it from different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rimary Market --&gt; Subscription li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Contents</a:t>
            </a: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Enhancements in this release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RC Account &amp; RRC Account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Transfer of Securities using Transfer Order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Issue Announcement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Placing bids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Printing list of bids placed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Checking issue results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Checking account balance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Hands-on Sessions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76320" y="914400"/>
            <a:ext cx="9067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Placing Bids for LAF (Contd.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2120" y="2057400"/>
            <a:ext cx="769608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n the bid screen from issue details scre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er the Bid detai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ect Reverse Repo check box (This will be selected by default incase of LAF Reverse Rep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er face value appli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mit the Bi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second level authorization – Check the status of the Bid -  Approve/Reject/Resend it from different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rimary Market --&gt; Subscription li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" y="1600200"/>
            <a:ext cx="826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Placing the Reverse Repo bids for fixed rate iss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76320" y="914400"/>
            <a:ext cx="9067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Placing B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1600200"/>
            <a:ext cx="826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Placing the Reverse Repo bids for variable rate iss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2209680"/>
            <a:ext cx="7696080" cy="35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n the bid screen from issue details scre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er the Bid detai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ect Reverse Repo check box (This will be selected by default incase of LAF Reverse Rep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er Repo rate &amp; face value appli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mit the Bi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second level authorization – Check the status of the Bid -  Approve/Reject/Resend it from different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rimary Market --&gt; Subscription li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2057400" y="2286000"/>
          <a:ext cx="468648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286000"/>
                    <a:ext cx="468648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76320" y="914400"/>
            <a:ext cx="9067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Placing Bids for LAF (Contd.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" y="1600200"/>
            <a:ext cx="826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Bids screen showing fields of Repo/ Reverse Repo B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3824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838080" y="2743200"/>
            <a:ext cx="6743880" cy="3095640"/>
            <a:chOff x="838080" y="2743200"/>
            <a:chExt cx="6743880" cy="3095640"/>
          </a:xfrm>
        </p:grpSpPr>
        <p:sp>
          <p:nvSpPr>
            <p:cNvPr id="266" name=""/>
            <p:cNvSpPr/>
            <p:nvPr/>
          </p:nvSpPr>
          <p:spPr>
            <a:xfrm>
              <a:off x="1876320" y="4200480"/>
              <a:ext cx="1257120" cy="228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38080" y="2743200"/>
              <a:ext cx="1028520" cy="11430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00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This can be ticked for making a Reverse Repo bid in LA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294560" y="3886200"/>
              <a:ext cx="571320" cy="571320"/>
            </a:xfrm>
            <a:custGeom>
              <a:avLst/>
              <a:gdLst>
                <a:gd name="textAreaLeft" fmla="*/ 163800 w 571320"/>
                <a:gd name="textAreaRight" fmla="*/ 489600 w 571320"/>
                <a:gd name="textAreaTop" fmla="*/ 329040 h 571320"/>
                <a:gd name="textAreaBottom" fmla="*/ 489600 h 57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782040" y="4297680"/>
              <a:ext cx="799920" cy="12571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00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In the fixed rate basis only this has to be fill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3466800" y="4640400"/>
              <a:ext cx="3314880" cy="457200"/>
              <a:chOff x="3466800" y="4640400"/>
              <a:chExt cx="3314880" cy="457200"/>
            </a:xfrm>
          </p:grpSpPr>
          <p:sp>
            <p:nvSpPr>
              <p:cNvPr id="271" name=""/>
              <p:cNvSpPr/>
              <p:nvPr/>
            </p:nvSpPr>
            <p:spPr>
              <a:xfrm flipV="1">
                <a:off x="3466800" y="46404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466800" y="5097600"/>
                <a:ext cx="3314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1866240" y="4649760"/>
              <a:ext cx="1228320" cy="447840"/>
              <a:chOff x="1866240" y="4649760"/>
              <a:chExt cx="1228320" cy="447840"/>
            </a:xfrm>
          </p:grpSpPr>
          <p:grpSp>
            <p:nvGrpSpPr>
              <p:cNvPr id="274" name=""/>
              <p:cNvGrpSpPr/>
              <p:nvPr/>
            </p:nvGrpSpPr>
            <p:grpSpPr>
              <a:xfrm>
                <a:off x="1866240" y="4649760"/>
                <a:ext cx="733320" cy="447840"/>
                <a:chOff x="1866240" y="4649760"/>
                <a:chExt cx="733320" cy="447840"/>
              </a:xfrm>
            </p:grpSpPr>
            <p:sp>
              <p:nvSpPr>
                <p:cNvPr id="275" name=""/>
                <p:cNvSpPr/>
                <p:nvPr/>
              </p:nvSpPr>
              <p:spPr>
                <a:xfrm flipV="1">
                  <a:off x="2599560" y="4649760"/>
                  <a:ext cx="0" cy="447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866240" y="5097600"/>
                  <a:ext cx="733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2361240" y="4649760"/>
                <a:ext cx="733320" cy="447840"/>
                <a:chOff x="2361240" y="4649760"/>
                <a:chExt cx="733320" cy="447840"/>
              </a:xfrm>
            </p:grpSpPr>
            <p:sp>
              <p:nvSpPr>
                <p:cNvPr id="278" name=""/>
                <p:cNvSpPr/>
                <p:nvPr/>
              </p:nvSpPr>
              <p:spPr>
                <a:xfrm flipV="1">
                  <a:off x="3094560" y="4649760"/>
                  <a:ext cx="0" cy="447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H="1">
                  <a:off x="2361240" y="5097600"/>
                  <a:ext cx="733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0" name=""/>
            <p:cNvSpPr/>
            <p:nvPr/>
          </p:nvSpPr>
          <p:spPr>
            <a:xfrm>
              <a:off x="847440" y="4695840"/>
              <a:ext cx="1028520" cy="11430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00000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In the Variable Rate basis both these fields have to be fill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2228760" y="16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76320" y="914400"/>
            <a:ext cx="9067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Printing List of Bids Plac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1866960"/>
            <a:ext cx="769608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n Generate Report Screen and select PMO in th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ect the report name and issue id in that and then click gener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n Report List screen and find the entry corresponding to the report trigge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n the report by double clicking on that ent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print option in the report to print the rep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76320" y="914400"/>
            <a:ext cx="9067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Printing List of Bids Placed (Contd.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8600" y="1600200"/>
            <a:ext cx="826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 Sample report of bids pla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38240" y="16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938240" y="2362320"/>
          <a:ext cx="52675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8240" y="2362320"/>
                    <a:ext cx="52675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76320" y="914400"/>
            <a:ext cx="9067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Checking Issue Resu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1866960"/>
            <a:ext cx="769608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ce the bidding processes is done, IDMD will announce the resul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message is displayed in the “Calls and Messages” window under Issue Announcements &amp; Results nod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uble click on the corresponding entry to see the details of the issue resul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 Open the same using menu option issue resul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rimary Market --&gt; Issue Resul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76320" y="914400"/>
            <a:ext cx="9067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Checking Issue Results (Contd.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3824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5333760" cy="38862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228600" y="1600200"/>
            <a:ext cx="826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Issue results screen and results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5333760" cy="37339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76320" y="914400"/>
            <a:ext cx="9067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Checking Issue Results (Contd.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3824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" y="1600200"/>
            <a:ext cx="826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hortfall not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76320" y="914400"/>
            <a:ext cx="9067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Security Mov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8600" y="1600200"/>
            <a:ext cx="826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First Le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8600" y="3886200"/>
            <a:ext cx="826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econd Le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600200" y="2286000"/>
            <a:ext cx="5600880" cy="533520"/>
            <a:chOff x="1600200" y="2286000"/>
            <a:chExt cx="5600880" cy="533520"/>
          </a:xfrm>
        </p:grpSpPr>
        <p:sp>
          <p:nvSpPr>
            <p:cNvPr id="303" name=""/>
            <p:cNvSpPr/>
            <p:nvPr/>
          </p:nvSpPr>
          <p:spPr>
            <a:xfrm>
              <a:off x="1600200" y="2286000"/>
              <a:ext cx="1714680" cy="533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yriad Roman"/>
                </a:rPr>
                <a:t>Member’s RC SGL A/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486400" y="2286000"/>
              <a:ext cx="1714680" cy="533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yriad Roman"/>
                </a:rPr>
                <a:t>IDMD’s RC SGL A/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2590920"/>
              <a:ext cx="217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600200" y="3200400"/>
            <a:ext cx="5600880" cy="533520"/>
            <a:chOff x="1600200" y="3200400"/>
            <a:chExt cx="5600880" cy="533520"/>
          </a:xfrm>
        </p:grpSpPr>
        <p:sp>
          <p:nvSpPr>
            <p:cNvPr id="307" name=""/>
            <p:cNvSpPr/>
            <p:nvPr/>
          </p:nvSpPr>
          <p:spPr>
            <a:xfrm>
              <a:off x="1600200" y="3200400"/>
              <a:ext cx="1714680" cy="533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yriad Roman"/>
                </a:rPr>
                <a:t>IDMD’s RRC SGL A/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486400" y="3200400"/>
              <a:ext cx="1714680" cy="533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yriad Roman"/>
                </a:rPr>
                <a:t>Member’s RRC SGL A/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276720" y="3505320"/>
              <a:ext cx="217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1523880" y="5257800"/>
            <a:ext cx="5600880" cy="533520"/>
            <a:chOff x="1523880" y="5257800"/>
            <a:chExt cx="5600880" cy="533520"/>
          </a:xfrm>
        </p:grpSpPr>
        <p:sp>
          <p:nvSpPr>
            <p:cNvPr id="311" name=""/>
            <p:cNvSpPr/>
            <p:nvPr/>
          </p:nvSpPr>
          <p:spPr>
            <a:xfrm>
              <a:off x="1523880" y="5257800"/>
              <a:ext cx="1714680" cy="533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yriad Roman"/>
                </a:rPr>
                <a:t>Member’s RRC SGL A/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410080" y="5257800"/>
              <a:ext cx="1714680" cy="533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yriad Roman"/>
                </a:rPr>
                <a:t>IDMD’s RRC SGL A/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200400" y="5562720"/>
              <a:ext cx="217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1523880" y="4419720"/>
            <a:ext cx="5600880" cy="533160"/>
            <a:chOff x="1523880" y="4419720"/>
            <a:chExt cx="5600880" cy="533160"/>
          </a:xfrm>
        </p:grpSpPr>
        <p:sp>
          <p:nvSpPr>
            <p:cNvPr id="315" name=""/>
            <p:cNvSpPr/>
            <p:nvPr/>
          </p:nvSpPr>
          <p:spPr>
            <a:xfrm>
              <a:off x="1523880" y="4419720"/>
              <a:ext cx="1714680" cy="533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yriad Roman"/>
                </a:rPr>
                <a:t>IDMD’s RC SGL A/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410080" y="4419720"/>
              <a:ext cx="1714680" cy="533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yriad Roman"/>
                </a:rPr>
                <a:t>Member’s RC SGL A/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200400" y="4724280"/>
              <a:ext cx="217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76320" y="914400"/>
            <a:ext cx="9067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Checking Account Bal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2120" y="2133720"/>
            <a:ext cx="807696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n Account Balance/Account Statement Scre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er the necessary detai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 the account balance against the instrument for which LAF is process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Enhancements in this release</a:t>
            </a: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Change in Nomenclature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New Issue Types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yriad Roman"/>
              </a:rPr>
              <a:t>Settlement in Repo Constituent (RC) and Reverse Repo Constituent (RRC) Account</a:t>
            </a:r>
            <a:endParaRPr b="0" lang="en-US" sz="36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p:transition spd="med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76320" y="914400"/>
            <a:ext cx="9067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Checking Account Balance (Contd.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1600200"/>
            <a:ext cx="826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ccount Balance screen showing the current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3824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905120" y="2066760"/>
            <a:ext cx="5267160" cy="3953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76320" y="914400"/>
            <a:ext cx="9067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Checking Account Balance (Contd.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" y="1600200"/>
            <a:ext cx="826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ccount Statement screen showing the current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824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3824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938240" y="2066760"/>
            <a:ext cx="5267520" cy="3953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914400"/>
            <a:ext cx="9067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LA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76320" y="2666880"/>
          <a:ext cx="8697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666880"/>
                    <a:ext cx="8697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1295280" y="1752480"/>
            <a:ext cx="2743200" cy="685800"/>
          </a:xfrm>
          <a:prstGeom prst="flowChartProcess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nounce the 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105520" y="2425680"/>
            <a:ext cx="2666880" cy="762120"/>
          </a:xfrm>
          <a:prstGeom prst="flowChartProcess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ce Repo/Rev Re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295280" y="4191120"/>
            <a:ext cx="2743200" cy="761760"/>
          </a:xfrm>
          <a:prstGeom prst="flowChartProcess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Bids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nounce the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520" y="2361960"/>
            <a:ext cx="7617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 flipV="1">
            <a:off x="7772040" y="182880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876920" y="1295280"/>
            <a:ext cx="2895480" cy="749520"/>
          </a:xfrm>
          <a:prstGeom prst="flowChartProcess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e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 in RC ac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9480" y="38098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105520" y="3606840"/>
            <a:ext cx="2666880" cy="762120"/>
          </a:xfrm>
          <a:prstGeom prst="flowChartProcess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305920" y="2666880"/>
          <a:ext cx="86976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2666880"/>
                    <a:ext cx="8697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 flipH="1" flipV="1">
            <a:off x="7772040" y="289512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7772040" y="3276720"/>
            <a:ext cx="7621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876920" y="4863960"/>
            <a:ext cx="2895480" cy="774720"/>
          </a:xfrm>
          <a:prstGeom prst="flowChartProcess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Balance af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 and 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7772040" y="3962520"/>
            <a:ext cx="6094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76320" y="152280"/>
            <a:ext cx="9067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Myriad Roman"/>
              </a:rPr>
              <a:t>Hands-on S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5800" y="1066680"/>
            <a:ext cx="80773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e: Saturday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ctober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nu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e Bank of India, C7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oo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ra Kurla Comple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ra (East), Mumbai 400 05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es Sched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1 – 10 AM to 11 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2 – 11:30 AM to 12:30 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3 – 2:30 PM to 3:30 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4 – 4 PM to 5 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IMPORTA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user per institu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-Card is requi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2437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Myriad Roman"/>
              </a:rPr>
              <a:t>THANK YOU</a:t>
            </a:r>
            <a:endParaRPr b="0" lang="en-US" sz="4400" spc="-1" strike="noStrike">
              <a:solidFill>
                <a:srgbClr val="cc3300"/>
              </a:solidFill>
              <a:latin typeface="Myriad Roman"/>
            </a:endParaRPr>
          </a:p>
        </p:txBody>
      </p:sp>
    </p:spTree>
  </p:cSld>
  <p:transition spd="med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733920" y="1143000"/>
            <a:ext cx="1736640" cy="37339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2819520" y="51814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Y QUESTIONS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RC &amp; RRC Account Types</a:t>
            </a:r>
            <a:endParaRPr b="0" lang="en-US" sz="40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RC Account – Repo Constituent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Myriad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Holds securities to be delivered to RBI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Myriad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Transfer of Securities between Principal SGL A/c &amp; RC SGL A/c is possible using Transfer Orders (RC Transfer &amp; RC Withdrawal)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yriad Roman"/>
              </a:rPr>
              <a:t>RRC Account – Reverse Repo Constituent</a:t>
            </a:r>
            <a:endParaRPr b="0" lang="en-US" sz="3200" spc="-1" strike="noStrike">
              <a:solidFill>
                <a:srgbClr val="000000"/>
              </a:solidFill>
              <a:latin typeface="Myriad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Myriad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Holds securities received from RBI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Myriad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Securities CAN NOT be transferred to any other SGL account using Transfer Orders</a:t>
            </a:r>
            <a:endParaRPr b="0" lang="en-US" sz="2000" spc="-1" strike="noStrike">
              <a:solidFill>
                <a:srgbClr val="000000"/>
              </a:solidFill>
              <a:latin typeface="Myriad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Myriad Roman"/>
              </a:rPr>
              <a:t>Transfer of Securities using Transfer Order</a:t>
            </a:r>
            <a:endParaRPr b="0" lang="en-US" sz="28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05120" y="342900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66760" y="2057400"/>
            <a:ext cx="5477040" cy="41148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Navigation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Settlement             Transfer Order          Transfer Order Entry</a:t>
            </a: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666880" y="1828800"/>
            <a:ext cx="2895840" cy="0"/>
            <a:chOff x="2666880" y="1828800"/>
            <a:chExt cx="2895840" cy="0"/>
          </a:xfrm>
        </p:grpSpPr>
        <p:sp>
          <p:nvSpPr>
            <p:cNvPr id="97" name=""/>
            <p:cNvSpPr/>
            <p:nvPr/>
          </p:nvSpPr>
          <p:spPr>
            <a:xfrm>
              <a:off x="5105520" y="1828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666880" y="1828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Myriad Roman"/>
              </a:rPr>
              <a:t>Transfer of Securities using Transfer Order (Contd..)</a:t>
            </a:r>
            <a:endParaRPr b="0" lang="en-US" sz="28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Steps in Transfer Order &amp; Status Transition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342900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838080" y="1752480"/>
            <a:ext cx="7162560" cy="4191120"/>
            <a:chOff x="838080" y="1752480"/>
            <a:chExt cx="7162560" cy="4191120"/>
          </a:xfrm>
        </p:grpSpPr>
        <p:grpSp>
          <p:nvGrpSpPr>
            <p:cNvPr id="105" name=""/>
            <p:cNvGrpSpPr/>
            <p:nvPr/>
          </p:nvGrpSpPr>
          <p:grpSpPr>
            <a:xfrm>
              <a:off x="844200" y="1755720"/>
              <a:ext cx="7149240" cy="4183560"/>
              <a:chOff x="844200" y="1755720"/>
              <a:chExt cx="7149240" cy="41835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844200" y="1755720"/>
                <a:ext cx="2032200" cy="1045800"/>
                <a:chOff x="844200" y="1755720"/>
                <a:chExt cx="2032200" cy="104580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844200" y="1755720"/>
                  <a:ext cx="2032200" cy="104580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" name=""/>
                <p:cNvGrpSpPr/>
                <p:nvPr/>
              </p:nvGrpSpPr>
              <p:grpSpPr>
                <a:xfrm>
                  <a:off x="844200" y="1755720"/>
                  <a:ext cx="2031840" cy="1045800"/>
                  <a:chOff x="844200" y="1755720"/>
                  <a:chExt cx="2031840" cy="1045800"/>
                </a:xfrm>
              </p:grpSpPr>
              <p:sp>
                <p:nvSpPr>
                  <p:cNvPr id="109" name=""/>
                  <p:cNvSpPr/>
                  <p:nvPr/>
                </p:nvSpPr>
                <p:spPr>
                  <a:xfrm>
                    <a:off x="933840" y="1755720"/>
                    <a:ext cx="1852920" cy="104580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Myriad Roman"/>
                        <a:ea typeface="Times New Roman"/>
                      </a:rPr>
                      <a:t>Stage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844200" y="1755720"/>
                    <a:ext cx="2031840" cy="104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1" name=""/>
              <p:cNvGrpSpPr/>
              <p:nvPr/>
            </p:nvGrpSpPr>
            <p:grpSpPr>
              <a:xfrm>
                <a:off x="2876760" y="1755720"/>
                <a:ext cx="1052640" cy="1045800"/>
                <a:chOff x="2876760" y="1755720"/>
                <a:chExt cx="1052640" cy="104580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2876760" y="1755720"/>
                  <a:ext cx="1052640" cy="104580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3" name=""/>
                <p:cNvGrpSpPr/>
                <p:nvPr/>
              </p:nvGrpSpPr>
              <p:grpSpPr>
                <a:xfrm>
                  <a:off x="2876760" y="1755720"/>
                  <a:ext cx="1052280" cy="1045800"/>
                  <a:chOff x="2876760" y="1755720"/>
                  <a:chExt cx="1052280" cy="104580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2966400" y="1755720"/>
                    <a:ext cx="873360" cy="104580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Myriad Roman"/>
                        <a:ea typeface="Times New Roman"/>
                      </a:rPr>
                      <a:t>Done By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2876760" y="1755720"/>
                    <a:ext cx="1052280" cy="104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6" name=""/>
              <p:cNvGrpSpPr/>
              <p:nvPr/>
            </p:nvGrpSpPr>
            <p:grpSpPr>
              <a:xfrm>
                <a:off x="3930120" y="1755720"/>
                <a:ext cx="2107800" cy="1045800"/>
                <a:chOff x="3930120" y="1755720"/>
                <a:chExt cx="2107800" cy="104580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3930120" y="1755720"/>
                  <a:ext cx="2107800" cy="104580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8" name=""/>
                <p:cNvGrpSpPr/>
                <p:nvPr/>
              </p:nvGrpSpPr>
              <p:grpSpPr>
                <a:xfrm>
                  <a:off x="3930120" y="1755720"/>
                  <a:ext cx="2107440" cy="1045800"/>
                  <a:chOff x="3930120" y="1755720"/>
                  <a:chExt cx="2107440" cy="1045800"/>
                </a:xfrm>
              </p:grpSpPr>
              <p:sp>
                <p:nvSpPr>
                  <p:cNvPr id="119" name=""/>
                  <p:cNvSpPr/>
                  <p:nvPr/>
                </p:nvSpPr>
                <p:spPr>
                  <a:xfrm>
                    <a:off x="4019760" y="1755720"/>
                    <a:ext cx="1927800" cy="104580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Myriad Roman"/>
                        <a:ea typeface="Times New Roman"/>
                      </a:rPr>
                      <a:t>Option / Button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3930120" y="1755720"/>
                    <a:ext cx="2107440" cy="104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1" name=""/>
              <p:cNvGrpSpPr/>
              <p:nvPr/>
            </p:nvGrpSpPr>
            <p:grpSpPr>
              <a:xfrm>
                <a:off x="6038280" y="1755720"/>
                <a:ext cx="1955160" cy="1045800"/>
                <a:chOff x="6038280" y="1755720"/>
                <a:chExt cx="1955160" cy="104580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6038280" y="1755720"/>
                  <a:ext cx="1955160" cy="104580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3" name=""/>
                <p:cNvGrpSpPr/>
                <p:nvPr/>
              </p:nvGrpSpPr>
              <p:grpSpPr>
                <a:xfrm>
                  <a:off x="6038280" y="1755720"/>
                  <a:ext cx="1954800" cy="1045800"/>
                  <a:chOff x="6038280" y="1755720"/>
                  <a:chExt cx="1954800" cy="1045800"/>
                </a:xfrm>
              </p:grpSpPr>
              <p:sp>
                <p:nvSpPr>
                  <p:cNvPr id="124" name=""/>
                  <p:cNvSpPr/>
                  <p:nvPr/>
                </p:nvSpPr>
                <p:spPr>
                  <a:xfrm>
                    <a:off x="6127560" y="1755720"/>
                    <a:ext cx="1775880" cy="104580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Myriad Roman"/>
                        <a:ea typeface="Times New Roman"/>
                      </a:rPr>
                      <a:t>Status of Transfer Order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Myriad Roman"/>
                        <a:ea typeface="Times New Roman"/>
                      </a:rPr>
                      <a:t> 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6038280" y="1755720"/>
                    <a:ext cx="1954800" cy="104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6" name=""/>
              <p:cNvGrpSpPr/>
              <p:nvPr/>
            </p:nvGrpSpPr>
            <p:grpSpPr>
              <a:xfrm>
                <a:off x="844200" y="2801520"/>
                <a:ext cx="2032200" cy="1045800"/>
                <a:chOff x="844200" y="2801520"/>
                <a:chExt cx="2032200" cy="10458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33840" y="2801520"/>
                  <a:ext cx="1852920" cy="104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Myriad Roman"/>
                      <a:ea typeface="Times New Roman"/>
                    </a:rPr>
                    <a:t>Enter Transfer Ord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44200" y="2801520"/>
                  <a:ext cx="2032200" cy="104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2876760" y="2801520"/>
                <a:ext cx="1052640" cy="1045800"/>
                <a:chOff x="2876760" y="2801520"/>
                <a:chExt cx="1052640" cy="10458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2966400" y="2801520"/>
                  <a:ext cx="873360" cy="104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Myriad Roman"/>
                      <a:ea typeface="Times New Roman"/>
                    </a:rPr>
                    <a:t>Memb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876760" y="2801520"/>
                  <a:ext cx="1052640" cy="104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3930120" y="2801520"/>
                <a:ext cx="2107800" cy="1045800"/>
                <a:chOff x="3930120" y="2801520"/>
                <a:chExt cx="2107800" cy="104580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4019760" y="2801520"/>
                  <a:ext cx="1928160" cy="104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Myriad Roman"/>
                      <a:ea typeface="Times New Roman"/>
                    </a:rPr>
                    <a:t>‘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Myriad Roman"/>
                      <a:ea typeface="Times New Roman"/>
                    </a:rPr>
                    <a:t>Submit’ in Transfer Order Entry Scree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Myriad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3930120" y="2801520"/>
                  <a:ext cx="2107800" cy="104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6038280" y="2801520"/>
                <a:ext cx="1955160" cy="1045800"/>
                <a:chOff x="6038280" y="2801520"/>
                <a:chExt cx="1955160" cy="10458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6127560" y="2801520"/>
                  <a:ext cx="1775880" cy="104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Myriad Roman"/>
                      <a:ea typeface="Times New Roman"/>
                    </a:rPr>
                    <a:t>Created by Memb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038280" y="2801520"/>
                  <a:ext cx="1955160" cy="104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844200" y="3847680"/>
                <a:ext cx="2032200" cy="1045800"/>
                <a:chOff x="844200" y="3847680"/>
                <a:chExt cx="2032200" cy="104580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933840" y="3847680"/>
                  <a:ext cx="1852920" cy="104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Myriad Roman"/>
                      <a:ea typeface="Times New Roman"/>
                    </a:rPr>
                    <a:t>Approve Transfer Ord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844200" y="3847680"/>
                  <a:ext cx="2032200" cy="104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2876760" y="3847680"/>
                <a:ext cx="1052640" cy="1045800"/>
                <a:chOff x="2876760" y="3847680"/>
                <a:chExt cx="1052640" cy="104580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2966400" y="3847680"/>
                  <a:ext cx="873360" cy="104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Myriad Roman"/>
                      <a:ea typeface="Times New Roman"/>
                    </a:rPr>
                    <a:t>Memb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Myriad Roman"/>
                      <a:ea typeface="Times New Roman"/>
                    </a:rPr>
                    <a:t>(Different User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876760" y="3847680"/>
                  <a:ext cx="1052640" cy="104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3930120" y="3847680"/>
                <a:ext cx="2107800" cy="1045800"/>
                <a:chOff x="3930120" y="3847680"/>
                <a:chExt cx="2107800" cy="104580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4019760" y="3847680"/>
                  <a:ext cx="1928160" cy="104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Myriad Roman"/>
                      <a:ea typeface="Times New Roman"/>
                    </a:rPr>
                    <a:t>‘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Myriad Roman"/>
                      <a:ea typeface="Times New Roman"/>
                    </a:rPr>
                    <a:t>Approve’ in Transfer Order Query Screen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Myriad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930120" y="3847680"/>
                  <a:ext cx="2107800" cy="104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6038280" y="3847680"/>
                <a:ext cx="1955160" cy="1045800"/>
                <a:chOff x="6038280" y="3847680"/>
                <a:chExt cx="1955160" cy="104580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6127560" y="3847680"/>
                  <a:ext cx="1775880" cy="104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Myriad Roman"/>
                      <a:ea typeface="Times New Roman"/>
                    </a:rPr>
                    <a:t>Accep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038280" y="3847680"/>
                  <a:ext cx="1955160" cy="104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844200" y="4893480"/>
                <a:ext cx="2032200" cy="1045800"/>
                <a:chOff x="844200" y="4893480"/>
                <a:chExt cx="2032200" cy="10458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933840" y="4893480"/>
                  <a:ext cx="1852920" cy="104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Myriad Roman"/>
                      <a:ea typeface="Times New Roman"/>
                    </a:rPr>
                    <a:t>Confirm Transfer Ord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44200" y="4893480"/>
                  <a:ext cx="2032200" cy="104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2876760" y="4893480"/>
                <a:ext cx="1052640" cy="1045800"/>
                <a:chOff x="2876760" y="4893480"/>
                <a:chExt cx="1052640" cy="10458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2966400" y="4893480"/>
                  <a:ext cx="873360" cy="104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Myriad Roman"/>
                      <a:ea typeface="Times New Roman"/>
                    </a:rPr>
                    <a:t>PD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876760" y="4893480"/>
                  <a:ext cx="1052640" cy="104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3930120" y="4893480"/>
                <a:ext cx="2107800" cy="1045800"/>
                <a:chOff x="3930120" y="4893480"/>
                <a:chExt cx="2107800" cy="10458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019760" y="4893480"/>
                  <a:ext cx="1928160" cy="104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Myriad Roman"/>
                      <a:ea typeface="Times New Roman"/>
                    </a:rPr>
                    <a:t>‘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Myriad Roman"/>
                      <a:ea typeface="Times New Roman"/>
                    </a:rPr>
                    <a:t>Confirm’ in Transfer Order Query Scree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Myriad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930120" y="4893480"/>
                  <a:ext cx="2107800" cy="104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6038280" y="4893480"/>
                <a:ext cx="1955160" cy="1045800"/>
                <a:chOff x="6038280" y="4893480"/>
                <a:chExt cx="1955160" cy="10458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6127560" y="4893480"/>
                  <a:ext cx="1775880" cy="104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Myriad Roman"/>
                      <a:ea typeface="Times New Roman"/>
                    </a:rPr>
                    <a:t>Settl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38280" y="4893480"/>
                  <a:ext cx="1955160" cy="104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2" name=""/>
            <p:cNvSpPr/>
            <p:nvPr/>
          </p:nvSpPr>
          <p:spPr>
            <a:xfrm>
              <a:off x="838080" y="1752480"/>
              <a:ext cx="7162560" cy="41911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Myriad Roman"/>
              </a:rPr>
              <a:t>Transfer of Securities using Transfer Order (Contd..)</a:t>
            </a:r>
            <a:endParaRPr b="0" lang="en-US" sz="2800" spc="-1" strike="noStrike">
              <a:solidFill>
                <a:srgbClr val="cc3300"/>
              </a:solidFill>
              <a:latin typeface="Myriad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5120" y="342900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714680" y="2057400"/>
            <a:ext cx="5600520" cy="914400"/>
            <a:chOff x="1714680" y="2057400"/>
            <a:chExt cx="5600520" cy="914400"/>
          </a:xfrm>
        </p:grpSpPr>
        <p:sp>
          <p:nvSpPr>
            <p:cNvPr id="167" name=""/>
            <p:cNvSpPr/>
            <p:nvPr/>
          </p:nvSpPr>
          <p:spPr>
            <a:xfrm>
              <a:off x="1714680" y="2057400"/>
              <a:ext cx="1714320" cy="9144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yriad Roman"/>
                </a:rPr>
                <a:t>Member’s Principal SGL A/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00880" y="2057400"/>
              <a:ext cx="1714320" cy="9144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yriad Roman"/>
                </a:rPr>
                <a:t>Member’s RC SGL A/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29000" y="2514600"/>
              <a:ext cx="217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714680" y="4419720"/>
            <a:ext cx="5600520" cy="914400"/>
            <a:chOff x="1714680" y="4419720"/>
            <a:chExt cx="5600520" cy="914400"/>
          </a:xfrm>
        </p:grpSpPr>
        <p:sp>
          <p:nvSpPr>
            <p:cNvPr id="171" name=""/>
            <p:cNvSpPr/>
            <p:nvPr/>
          </p:nvSpPr>
          <p:spPr>
            <a:xfrm>
              <a:off x="1714680" y="4419720"/>
              <a:ext cx="1714320" cy="9144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yriad Roman"/>
                </a:rPr>
                <a:t>Member’s RC SGL A/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600880" y="4419720"/>
              <a:ext cx="1714320" cy="9144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yriad Roman"/>
                </a:rPr>
                <a:t>Member’s Principal SGL A/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29000" y="4876920"/>
              <a:ext cx="217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RC Transfer</a:t>
            </a:r>
            <a:endParaRPr b="0" lang="en-US" sz="2400" spc="-1" strike="noStrike">
              <a:solidFill>
                <a:srgbClr val="000000"/>
              </a:solidFill>
              <a:latin typeface="Myriad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3581280"/>
            <a:ext cx="830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 Roman"/>
              </a:rPr>
              <a:t>RC Withdraw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80880" y="91440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Issue Announc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1828800"/>
            <a:ext cx="769608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are three kinds of LAF iss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A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AF Rep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AF Reverse Rep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80880" y="91440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Myriad Roman"/>
              </a:rPr>
              <a:t>Issue Announcement (Contd.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2666880"/>
            <a:ext cx="2743200" cy="685800"/>
          </a:xfrm>
          <a:prstGeom prst="flowChartProcess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95280" y="3962520"/>
            <a:ext cx="2743200" cy="761760"/>
          </a:xfrm>
          <a:prstGeom prst="flowChartProcess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 B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86400" y="3962520"/>
            <a:ext cx="2743200" cy="761760"/>
          </a:xfrm>
          <a:prstGeom prst="flowChartProcess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erse Repo B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3640" y="1676520"/>
            <a:ext cx="2734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Issue Type LA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396160" y="3276720"/>
            <a:ext cx="2480760" cy="685800"/>
            <a:chOff x="2396160" y="3276720"/>
            <a:chExt cx="2480760" cy="685800"/>
          </a:xfrm>
        </p:grpSpPr>
        <p:sp>
          <p:nvSpPr>
            <p:cNvPr id="184" name=""/>
            <p:cNvSpPr/>
            <p:nvPr/>
          </p:nvSpPr>
          <p:spPr>
            <a:xfrm flipH="1">
              <a:off x="2438280" y="3352680"/>
              <a:ext cx="243864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396160" y="3276720"/>
              <a:ext cx="123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ontai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800600" y="3352680"/>
            <a:ext cx="2327760" cy="609840"/>
            <a:chOff x="4800600" y="3352680"/>
            <a:chExt cx="2327760" cy="609840"/>
          </a:xfrm>
        </p:grpSpPr>
        <p:sp>
          <p:nvSpPr>
            <p:cNvPr id="187" name=""/>
            <p:cNvSpPr/>
            <p:nvPr/>
          </p:nvSpPr>
          <p:spPr>
            <a:xfrm>
              <a:off x="4800600" y="3352680"/>
              <a:ext cx="219456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96080" y="3352680"/>
              <a:ext cx="123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ontai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9T03:09:27Z</dcterms:created>
  <dc:creator>Dinanath Kholkar</dc:creator>
  <dc:description/>
  <dc:language>en-US</dc:language>
  <cp:lastModifiedBy>RBI</cp:lastModifiedBy>
  <cp:lastPrinted>2001-09-06T04:03:13Z</cp:lastPrinted>
  <dcterms:modified xsi:type="dcterms:W3CDTF">2004-10-07T07:17:44Z</dcterms:modified>
  <cp:revision>473</cp:revision>
  <dc:subject/>
  <dc:title>Software Project Management</dc:title>
</cp:coreProperties>
</file>