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66DC-57E3-408D-BB52-9F94287DDD83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Clien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886040"/>
          <a:ext cx="73152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86040"/>
                    <a:ext cx="731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828800"/>
          <a:ext cx="74674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4674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76201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Setting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714680"/>
          <a:ext cx="72392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14680"/>
                    <a:ext cx="72392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14:Export RBIPDONDS COM+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Select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Export starts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7696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96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001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pecify the path for storing generated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C:\RBIPDONDS.M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Application Proxy radi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fer next slide for the Screen Sho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752480"/>
          <a:ext cx="7162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1676520"/>
          <a:ext cx="7391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1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2:Location of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3809880"/>
          <a:ext cx="20574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809880"/>
                    <a:ext cx="20574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3:Copy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:\Program Files\RBIPDONDSSetUp\ServerDll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4038480"/>
          <a:ext cx="3276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038480"/>
                    <a:ext cx="3276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4:Double click msi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19480"/>
          <a:ext cx="81788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19480"/>
                    <a:ext cx="81788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5:Setting Component Properti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6: Right Click Component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000160"/>
          <a:ext cx="7924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924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2767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Client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7:“Component Properties” window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47800" y="1752480"/>
            <a:ext cx="3848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8: Select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24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exp9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9:Remote Serv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nder Remote Server Name: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ter fully qualified name of the Member Server and click “OK”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his name can be obtained by: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ight click “My Computer” on Desktop on Server Machine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Network Identification” tab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ull Computer Name” displays the name to be entere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0:Full Comput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1676520"/>
          <a:ext cx="4648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4648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1: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771560"/>
          <a:ext cx="58672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1560"/>
                    <a:ext cx="58672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2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3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4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ing Input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put file is already generated using GenerateInputs.exe during PDONDS Server installation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ocation of Input file: Server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 same input file should be used for PDONDS Client installation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Select Client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9:06:32Z</dcterms:modified>
  <cp:revision>495</cp:revision>
  <dc:subject/>
  <dc:title>Software Project Management</dc:title>
</cp:coreProperties>
</file>