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27F-60F9-402A-A5C5-F6F271D63D07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Serve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1600200"/>
          <a:ext cx="6324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324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Select Directory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1752480"/>
          <a:ext cx="7696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76520"/>
          <a:ext cx="7848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848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6002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4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COM+ Install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1828800"/>
          <a:ext cx="6781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781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COM+ Installation continues..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1622520"/>
          <a:ext cx="76964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22520"/>
                    <a:ext cx="76964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676520"/>
          <a:ext cx="72392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2392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Server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e 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 of GenerateInputs.exe: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\Support File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8120" y="3429000"/>
          <a:ext cx="213336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21333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Generate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13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Click “UPGRADATION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688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8:38:32Z</dcterms:modified>
  <cp:revision>475</cp:revision>
  <dc:subject/>
  <dc:title>Software Project Management</dc:title>
</cp:coreProperties>
</file>