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3196-F9EC-4DB2-9659-610394D8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4E2D-1ACD-4770-B80C-D6619590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0319-9114-4C97-AACB-328618E7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B22F-16CB-41E8-8ABB-DF918DAF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1F27-46B4-41CA-B623-583640F8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7F70-8FD5-4321-8BA6-47A93987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3655-4F9B-4B8D-BE39-6969E6A5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AE61-EC9E-4D6D-A03A-D3F654F9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E707-0E02-4964-A541-8BD408C5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5377-D121-49CC-8CC8-0FC4072B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DE71-B43F-4142-BA90-7FAEC172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847D-C70B-434E-A908-3ADA50A5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0222-D1FE-4D10-A75C-5B42460F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5307-E43E-46C7-8723-0B252727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9974-9FC7-4204-A04A-FE257517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323F-A139-4B05-8CA0-E317B5E4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C46F-59EE-4A96-A0AD-650604C5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4895-30FA-4DD2-8A27-D8FB9F71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BC47-C00A-4CA5-87AE-19785961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19D-AB18-4018-99D5-6D133FB7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91DA-4F42-4BCE-8221-750BB3BA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974C-A7EA-4D43-95C8-FFDC30E0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784D-3506-44C5-9145-3C24DD48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7FFE-1AE7-4626-9D20-666858D1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765E-98E4-473F-ABAB-E350FA8F8350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59FC-48D6-40C4-8F64-CD4C2377F1FF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ALANCE OF PAYMENTS :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NCEPTUAL AND COMPILATION ISSU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by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B.K. Bhoi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Director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Division of International Finance, DEAP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Reserve Bank of Indi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Banking Capital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ebt Creating Flows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f3"/>
                </a:solidFill>
                <a:latin typeface="Arial"/>
              </a:rPr>
              <a:t>Assets / Liabiliti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f3"/>
                </a:solidFill>
                <a:latin typeface="Arial"/>
              </a:rPr>
              <a:t>Non-resident Deposi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Areas of Concer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f3"/>
                </a:solidFill>
                <a:latin typeface="Arial"/>
              </a:rPr>
              <a:t>Reconciliation of merchandise trade data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f3"/>
                </a:solidFill>
                <a:latin typeface="Arial"/>
              </a:rPr>
              <a:t>More detailed data on trade in services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f3"/>
                </a:solidFill>
                <a:latin typeface="Arial"/>
              </a:rPr>
              <a:t>Refined data on FDI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f3"/>
                </a:solidFill>
                <a:latin typeface="Arial"/>
              </a:rPr>
              <a:t>Portfolio investment by NRIs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ff66ff"/>
                </a:solidFill>
                <a:latin typeface="Monotype Corsiva"/>
              </a:rPr>
              <a:t>Thanks</a:t>
            </a:r>
            <a:endParaRPr b="0" lang="en-US" sz="7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Definition of Balance of Pay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f3"/>
                </a:solidFill>
                <a:latin typeface="Arial"/>
              </a:rPr>
              <a:t>It is a Systematic record of all economic transaction between the residents of a country and the rest of the world during a specific period, i.e. usually a financial year.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f3"/>
                </a:solidFill>
                <a:latin typeface="Arial"/>
              </a:rPr>
              <a:t>It is based on double entry system of recording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Broad Format of BoP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Credit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Debit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Ne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812880" indent="-812880">
              <a:lnSpc>
                <a:spcPct val="60000"/>
              </a:lnSpc>
              <a:spcBef>
                <a:spcPts val="700"/>
              </a:spcBef>
              <a:buClr>
                <a:srgbClr val="4d4df3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Current Accoun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11685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f3"/>
                </a:solidFill>
                <a:latin typeface="Arial"/>
              </a:rPr>
              <a:t>I. Merchandise Trad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11685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f3"/>
                </a:solidFill>
                <a:latin typeface="Arial"/>
              </a:rPr>
              <a:t>II. Invisibl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4d4df3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Capital Accoun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f3"/>
                </a:solidFill>
                <a:latin typeface="Arial"/>
              </a:rPr>
              <a:t>Foreign Investme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f3"/>
                </a:solidFill>
                <a:latin typeface="Arial"/>
              </a:rPr>
              <a:t>Loa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f3"/>
                </a:solidFill>
                <a:latin typeface="Arial"/>
              </a:rPr>
              <a:t>Banking Capit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f3"/>
                </a:solidFill>
                <a:latin typeface="Arial"/>
              </a:rPr>
              <a:t>Rupee Debt Service Servic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f3"/>
                </a:solidFill>
                <a:latin typeface="Arial"/>
              </a:rPr>
              <a:t>Other Capit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4d4df3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Errors &amp; Ommissio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4d4df3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Overall Balance (A + B + C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4d4df3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Monetary Movemen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erchandise Trad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Items 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Institutions involved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b852"/>
                </a:solidFill>
                <a:latin typeface="Arial"/>
              </a:rPr>
              <a:t>Exports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4d4df3"/>
                </a:solidFill>
                <a:latin typeface="Arial"/>
              </a:rPr>
              <a:t>f.o.b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Customs, DGCI&amp;S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(GR/PP form)/DTR,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ADs (NEC form),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         ECD {GR (original)},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         DESACS / DEAP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b852"/>
                </a:solidFill>
                <a:latin typeface="Arial"/>
              </a:rPr>
              <a:t>Imports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4d4df3"/>
                </a:solidFill>
                <a:latin typeface="Arial"/>
              </a:rPr>
              <a:t>c.i.f.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Customs (BE),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ADs/ECD (R-Return)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         DESACS/DEAP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Difference Between BoP &amp; DGCI&amp;S Data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PP Exports not covered in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DGCI&amp;S Data;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No BoP Record with Nepal &amp; Bhutan;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Ships &amp; Aircrafts, Oil Defence Stocks;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Import under external Assista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Valuation: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Converted at rates notified by the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             Ministry of Commerce;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Average Exchange Rate for the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             respective month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Timing: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On the basis of shipments;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On the basis of Payments;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Lead/Lag in Payments/Shipments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 (3-4 month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Differential Reporting : Motiv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f3"/>
                </a:solidFill>
                <a:latin typeface="Arial"/>
              </a:rPr>
              <a:t>Money launder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f3"/>
                </a:solidFill>
                <a:latin typeface="Arial"/>
              </a:rPr>
              <a:t>Payment negotiated outside banking channel / retained abroad for under-invoicing of impor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f3"/>
                </a:solidFill>
                <a:latin typeface="Arial"/>
              </a:rPr>
              <a:t>Export credit arbitrag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f3"/>
                </a:solidFill>
                <a:latin typeface="Arial"/>
              </a:rPr>
              <a:t>Export incentiv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f3"/>
                </a:solidFill>
                <a:latin typeface="Arial"/>
              </a:rPr>
              <a:t>Avoidance of import duty in destination countr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visib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53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Items 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   Credit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 Debit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Ne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53400" indent="-653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Servic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6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Tra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6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Transport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6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Insura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6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G.N.I.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6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Miscellaneou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53400" indent="-653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Transfer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6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Official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6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Privat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53400" indent="-653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Inco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7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Investment Incom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7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Compensation of Employe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Foreign Investment</a:t>
            </a:r>
            <a:br>
              <a:rPr sz="40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on-debt creating flows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Direct Investmen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Equity Capital (SIA/FIPB, RBI automatic approvals, NRI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Reinvested earning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Inter-corporate debt transactio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Portfolio Investmen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Equity / Debt by FII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ADRs / GDR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Offshore fund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Loans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Debt Creating Flows)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f3"/>
                </a:solidFill>
                <a:latin typeface="Arial"/>
              </a:rPr>
              <a:t>External Assistanc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f3"/>
                </a:solidFill>
                <a:latin typeface="Arial"/>
              </a:rPr>
              <a:t>Commercial Borrowing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f3"/>
                </a:solidFill>
                <a:latin typeface="Arial"/>
              </a:rPr>
              <a:t>Short-term Credi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8:30:40Z</dcterms:created>
  <dc:creator>p nair</dc:creator>
  <dc:description/>
  <dc:language>en-US</dc:language>
  <cp:lastModifiedBy>director R B I</cp:lastModifiedBy>
  <dcterms:modified xsi:type="dcterms:W3CDTF">2003-12-12T10:10:41Z</dcterms:modified>
  <cp:revision>17</cp:revision>
  <dc:subject/>
  <dc:title>Definition of Balance of Payments</dc:title>
</cp:coreProperties>
</file>