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5BC-21BA-46B5-A8C9-EAC1E09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452-AB1E-4300-86E1-C26F98F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FB7-6B2D-46E7-8515-8DA6ED53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88C-813A-47E3-AC04-A7493C86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953-1CCD-45A8-A087-EFC18C37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C0D-94B2-4C35-B8F8-6314AEC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18A-60DD-4BDC-81E7-3FBA8A8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04B-91D9-4E80-B636-31D794F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097-38D1-401E-AD33-7FFAAD9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F53-8C42-4BA3-8583-B885629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B19-1ADA-4DE6-BD52-1EA2D851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24A-FB58-4C7F-9ED3-97FBFBB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09C3-4837-4F11-B2D5-647786FEF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cy 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(Import) A1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0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0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(Other than Import) A2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15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15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(All N/P/D bill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sent for collectio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sed during fortn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       received during fortnight) should tally with P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han Ex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not selected for URS, below equivalent Rs 5,00,000 total should be given with P159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selected for URS, below equivalent Rs 5,00,000 total should be given with P1590 and on selected dates (Provided by RBI) individual transactions also has to be reporte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bove or equal to Rs  5,00,000 total should tally with P1591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ing Balance = Opening Balance - Total Sales + Total Purcha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6781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Ds have to submit FET-ERS along with R-Return cover-page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on FET-ERS V6.0 file structure only will be acceptable from April 2004 on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BI, system is proposed to be installed to check the data consistency. Inconsistent data will be taken as default in submission  of R-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of R-Return Cover-page details in paper media may be discontinued in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Back-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cluding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’s image depends on the success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formation generated by the system can be effectively used by banks for their policy 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f the system depends solely on ADs efficiency &amp; Co-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d00"/>
                </a:solidFill>
                <a:latin typeface="Times New Roman"/>
              </a:rPr>
              <a:t>FET-ERS V6.0: Usage &amp; Ne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. K. Srim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of Payments Statistics Divi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ACS, Reserve Bank of India, 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196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Data: Usage at R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Balance of Payments (BoP)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nternational Investment Position (In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Exporters not entering Banking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V6.0: Needs of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ber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is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Globalisation &amp;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its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disaggreg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l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ality &amp;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ise presenta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as per 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Liberalisation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&amp; its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A replaced by F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ore emphasis on Macro management at RBI &amp; GoI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ntinuation of Submission of Documents along with R-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icro regulation at AD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of More inform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SC recommendation regarding information on suppliers credit upto 180 da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mputerised Environment &amp;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Only R-Return Cover-page information in paper media &amp; FET-ERS floppy are required to be submit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ty: Why still in FoxP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OVEL (DOS based) still in 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MS &amp; con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pose Cod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the Technical Group on “Statistics of International Trade in Servic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new fields in respect of Impor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NSC, shipping date and L/C indicator added to estimate short-term deb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E Mod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dditional purpose codes fo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R-Retur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 cover-page, distribut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Additional information on country of account ho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34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Floppy for submission to RBI will be created from FET-ERS V6.0 only if disaggregated data are consistent with R-Return cover-page total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7:20:28Z</dcterms:created>
  <dc:creator>director R B I</dc:creator>
  <dc:description/>
  <dc:language>en-US</dc:language>
  <cp:lastModifiedBy>director R B I</cp:lastModifiedBy>
  <dcterms:modified xsi:type="dcterms:W3CDTF">2004-01-02T05:20:59Z</dcterms:modified>
  <cp:revision>10</cp:revision>
  <dc:subject/>
  <dc:title>PowerPoint Presentation</dc:title>
</cp:coreProperties>
</file>