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9CF-2898-4D1A-922D-FFA3FA4E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C0A-0B31-4A74-A884-97B6229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24F-8DC4-4ABB-9E76-BC9DE082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C0F-3738-4A08-8F80-99617112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4DBE-26E9-4E48-AD6B-B2702231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716-F011-461F-A2E9-D0A7AD8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BA55-164B-4BCF-901E-07ED0FD5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BD0F-3019-4638-A607-CFC2DB47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D986-3929-42D8-BE09-9AC7F9DB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4404-C49B-4F35-8D12-A5E0AB4B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54A6-E2F6-45CE-A4B1-817132D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C75-7290-4560-A026-0A9039F9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A5B5-E1BB-4C24-B2FD-CBABAB2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CFC4-2D44-4801-8DAF-F801619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90F-8FBE-457A-A98F-C72BAFF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748-17D9-48B6-8B94-F39E7119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D9CE-CC93-4DE8-897D-B7E4864B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E70-73B8-4FD6-8417-FDCA6FEA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C4D-FA5C-468E-A5C8-AF966623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090-2B81-4839-A486-F01C3E9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A75-D2C5-47CD-B18C-CA6888B4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77E-5807-4241-9F9F-7AFB4C8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928-CE4E-457E-AA80-5CF25C9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1CA-9CA8-4509-92F6-EE74C2A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4C4-EFA1-4FB0-88F1-50D10F2B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6C3-4357-479C-8B51-E3AB8FA7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DISAGGREGATED DATA ON BALANCE OF PAYMENTS (BoP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r. B. K. Bhoi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irector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</a:rPr>
              <a:t>Division of International Finance, DEAP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Reserve Bank of In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Value of export bills N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alisation of export bills sent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ance receipts against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urplus freight/passenger fare b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n shipping/airlines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expenses of foreig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irlines/shipping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onal leasing with 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s towards travel (includes foreign TCs, currency notes over the counter by hotels, emporium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s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uri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ele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tellit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5 Construc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6 Insuranc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ife insu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reight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7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inancial Intermediation (bank charges,   collection charges, LC charge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vestment Banking – brokerage, underwriting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8 Computer and Inform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oftware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atabase and data processing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ir &amp; maintenance of computer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ews agencie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9 Royalties &amp; License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erchan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mission on exports and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eg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ccounting, Auditing, Book keeping and Tax consultanc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Business &amp; Management consultancy and Public Rel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ertising, Trade fare and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&amp;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rchitectural, Engineering and other Techn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gricultural, Mining &amp; Onsite process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office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1 Personal, Cultural and Recreation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udio-Visual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&amp; cultural services (related to Museums, Libraries, Sporting activities etc. &amp; Fees for corresponding cour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2 Government not included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Foreign Embassies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Indian Embassies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mittances towards family maintenance &amp;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gifts &amp; do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onations to religious &amp; charitabl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Grants &amp; donations to Governments &amp; charitable institutions established by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 &amp; refund of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pensation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lo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debt securities – debentures, bonds,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received/paid by ADs on their own investment/loa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funds, r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bi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s below US $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ayments below Rs 5,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licy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’s subscription to IMF’s Special Data Dissemination Standards (SD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-Agency Task Force’s Manual on Statistics of International Trade i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clusion of Services and Negotiations under WTO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Lucida Handwriting"/>
                <a:ea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7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Constitution of Technical Group on Statistics of International Trade in Services</a:t>
            </a: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</a:t>
            </a:r>
            <a:r>
              <a:rPr b="1" lang="en-US" sz="2800" spc="-1" strike="noStrike">
                <a:solidFill>
                  <a:srgbClr val="ff00ff"/>
                </a:solidFill>
                <a:latin typeface="Benguiat Bk BT"/>
                <a:ea typeface="Times New Roman"/>
              </a:rPr>
              <a:t>Major Terms of Reference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Implications of the Manual on Statistic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Trade i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Identification of appropriate purpos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Modification to A-2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Consequent revisions to Foreign Exchan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ransactions-Electronic Reporting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(FET - ERS) software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des of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1 – Cross bord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2 – Consumption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3 – Commercial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4 -  Presence of Natural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 - 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 -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our digit 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No of purpose cod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le  – increased from 64 to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 – increased from 58 to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Cut-off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Unclassified Receip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5 Construc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6 Insuran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7 Financi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8 Computer &amp;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9 Royalties &amp; licen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1 Personal, cultural and recre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2 Government services not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elsewhere (G. n.i.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rtfolio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oans from non-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on-residen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triation of Oversea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 R B I</cp:lastModifiedBy>
  <dcterms:modified xsi:type="dcterms:W3CDTF">2003-12-12T10:16:16Z</dcterms:modified>
  <cp:revision>16</cp:revision>
  <dc:subject/>
  <dc:title>PowerPoint Presentation</dc:title>
</cp:coreProperties>
</file>