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4396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5341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439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784440"/>
            <a:ext cx="853416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4396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0"/>
            <a:ext cx="861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Department of Statistical Analysis and Computer Services (DESACS), RB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ff"/>
                </a:solidFill>
                <a:latin typeface="Verdana"/>
              </a:rPr>
              <a:t>NRD-CSR Version 3.0                               NRD-CSR Team, RBI                                      Apri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9572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homelogo" descr=""/>
          <p:cNvPicPr/>
          <p:nvPr/>
        </p:nvPicPr>
        <p:blipFill>
          <a:blip r:embed="rId2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2326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NON–RESIDENT DEPOSITS – 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COMPREHENSIVE SINGLE RETURN</a:t>
            </a:r>
            <a:br>
              <a:rPr sz="2800"/>
            </a:br>
            <a:r>
              <a:rPr b="1" lang="en-GB" sz="2800" spc="-1" strike="noStrike">
                <a:solidFill>
                  <a:srgbClr val="66ffff"/>
                </a:solidFill>
                <a:latin typeface="Lucida Sans Unicode"/>
                <a:ea typeface="Times New Roman"/>
              </a:rPr>
              <a:t>(NRD-CSR)</a:t>
            </a:r>
            <a:br>
              <a:rPr sz="2800"/>
            </a:b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4647960"/>
            <a:ext cx="7010280" cy="114300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RD-CSR Tea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Bank of India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97180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trolling Offic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ole and Respon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ature of Discrepancies in the NRD-CSR Data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NON-USERS OF RBI’ S NRD-CSR SYSTEM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Lacking and misusing the concepts of IL and IA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Misusing / not reporting / wrongly reporting UC, SB, AR and AI records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Misreporting High value Transactions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Not sending in .DAT or .TXT (sending in .xls / .rpt files etc.) sometimes.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Lacking in Validation checks 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DATA QUALITY IMPROVEMENT: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FACT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It can not be improved overnight.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5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It is a consistent / continuous process.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Suggestions &amp; Recommendation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BANKS TO TAKE INITIATIVES TO RAISE QUALITY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Banks to prepare action plan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Banks may set phase-wise targets / goals for gradual improvement of data quality of NRD-CSR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Head Offices to transmit these advices to their other controlling office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Head Offices to convene workshops for their controlling offices on NRD-CSR Version 3.0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ff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ff66"/>
                </a:solidFill>
                <a:latin typeface="Times New Roman"/>
              </a:rPr>
              <a:t>Thank You</a:t>
            </a: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8" name="pe01562_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1542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RD-CSR System: Few Fac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 TRADITIONAL TIER OF REPORTING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imes New Roman"/>
              </a:rPr>
              <a:t>Branch &gt;&gt;RO &gt;&gt; ZO &gt;&gt; LHO &gt;&gt; HO &gt;&gt; RBI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OFFICES – TWO TYPE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Branches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- Basic data at grass root level.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Controlling Offices (RO/ZO/LHO/HO/RBI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- Consolidation of data of their lower down office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RD-CSR System: Few Fac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Times New Roman"/>
              </a:rPr>
              <a:t>MODIFICATIONS IN NRD-CS RETURN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Only possible in Branche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Limited Role of Controlling Offices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Branches to ensure correct data submission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This has to be judged at the very next leve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(lowest tier of controlling offices)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The consolidator of branch data is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very crucial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RD-CSR System: Few Fac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NTROLLING OFFICES: ACTION POINT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know your data details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(What you are submitting to your higher up?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know break-ups of data details of your lower down offices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(What you are receiving from them?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identify (after loading) your lower down offices in terms of their data quality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(Classify /Judge them as </a:t>
            </a: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ACCEPTABLE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JECTABL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RD-CSR System: Few Fac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CTION POINTS: FOR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ACCEPTABLE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include it for your onward transmission of data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Continue to monitor them (Check quality every month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ACTION POINTS: F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JECTABLE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o unload / delete such data from your system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Ensure not to include such erroneous data for onward submission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Advise these offices and pin-point their data discrepancie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Advise them to re-submit the same after correcting it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ff"/>
                </a:solidFill>
                <a:uFillTx/>
                <a:latin typeface="Times New Roman"/>
              </a:rPr>
              <a:t>NRD-CSR System: Few Facts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IMPACT OF THESE ACTION POINTS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cc"/>
                </a:solidFill>
                <a:uFillTx/>
                <a:latin typeface="Times New Roman"/>
              </a:rPr>
              <a:t>SHORT-TERM IMPACT (Within one month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he Erroneous data (bank as a whole) will quickly turn into  partial data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he data will be of some utility to Reserve Bank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cc"/>
                </a:solidFill>
                <a:uFillTx/>
                <a:latin typeface="Times New Roman"/>
              </a:rPr>
              <a:t>MEDIUM-TERM IMPACT (In more than one month)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he coverage will be on increase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The overall quality of data will improv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Such data can then be used for their MIS Reports also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ature of Discrepancies in the NRD-CSR Data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STOCK DATA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Wide variations in the stock balances (say, month end balances) between NRD-CSR and corresponding Stat Return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In FCNR and NRE Fixed, deposits are being reported for maturity of less than one year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Residual maturity is more than original maturity  in few case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Original maturity not defined (code = 9), in case of few fixed deposits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ature of Discrepancies in the NRD-CSR Data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FLOWS DATA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Various types of Inflows and Outflows (say, LW) are being used arbitrarily.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BALANCING EQUATION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OB of a month is not the same as the CB of its previous month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CB is not equal to OB </a:t>
            </a:r>
            <a:r>
              <a:rPr b="0" lang="en-US" sz="2000" spc="-1" strike="noStrike">
                <a:solidFill>
                  <a:srgbClr val="99ff66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Inflows </a:t>
            </a:r>
            <a:r>
              <a:rPr b="0" lang="en-US" sz="2000" spc="-1" strike="noStrike">
                <a:solidFill>
                  <a:srgbClr val="99ff66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Outflows for a month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ature of Discrepancies in the NRD-CSR Data</a:t>
            </a:r>
            <a:endParaRPr b="1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496040"/>
          </a:xfrm>
          <a:prstGeom prst="rect">
            <a:avLst/>
          </a:prstGeom>
          <a:solidFill>
            <a:srgbClr val="002244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LOSED SCHEME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Still deposits are being reported in NRNR and NRSR Schem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COUNTRY DETAILS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Poor information available in NRD-CSR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XX and IN are frequent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-522720">
              <a:lnSpc>
                <a:spcPct val="7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Confusion with country of residency of NRI and currency of FCNR deposit.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52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1:03:11Z</dcterms:created>
  <dc:creator>Prithwis Jana</dc:creator>
  <dc:description/>
  <dc:language>en-US</dc:language>
  <cp:lastModifiedBy>user</cp:lastModifiedBy>
  <dcterms:modified xsi:type="dcterms:W3CDTF">2007-04-26T19:39:07Z</dcterms:modified>
  <cp:revision>146</cp:revision>
  <dc:subject/>
  <dc:title>PowerPoint Presentation</dc:title>
</cp:coreProperties>
</file>