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0"/>
            <a:ext cx="8610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Department of Statistical Analysis and Computer Services (DESACS), R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ff"/>
                </a:solidFill>
                <a:latin typeface="Verdana"/>
              </a:rPr>
              <a:t>Dr. A K Srimany                                                                                                           Apri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95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logo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ff"/>
                </a:solidFill>
                <a:latin typeface="Garamond"/>
                <a:ea typeface="Times New Roman"/>
              </a:rPr>
              <a:t>Non - Resident Deposits – 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Garamond"/>
                <a:ea typeface="Times New Roman"/>
              </a:rPr>
              <a:t>Comprehensive Single Return (NRD-CSR)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by</a:t>
            </a:r>
            <a:br>
              <a:rPr sz="2000"/>
            </a:br>
            <a:br>
              <a:rPr sz="2000"/>
            </a:br>
            <a:r>
              <a:rPr b="1" lang="en-GB" sz="3600" spc="-1" strike="noStrike">
                <a:solidFill>
                  <a:srgbClr val="66ffff"/>
                </a:solidFill>
                <a:latin typeface="Garamond"/>
                <a:ea typeface="Times New Roman"/>
              </a:rPr>
              <a:t>Dr. A. K. SRIMANY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Garamond"/>
                <a:ea typeface="Times New Roman"/>
              </a:rPr>
              <a:t>Director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Balance of Payments Statistics Division</a:t>
            </a:r>
            <a:br>
              <a:rPr sz="20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Department of Statistical Analysis and Computer Services</a:t>
            </a:r>
            <a:br>
              <a:rPr sz="20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Reserve Bank of India</a:t>
            </a:r>
            <a:br>
              <a:rPr sz="20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Mumbai</a:t>
            </a:r>
            <a:br>
              <a:rPr sz="20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Tel: (022) 26572513</a:t>
            </a:r>
            <a:br>
              <a:rPr sz="20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Fax: (022) 26570848 </a:t>
            </a:r>
            <a:br>
              <a:rPr sz="2000"/>
            </a:br>
            <a:r>
              <a:rPr b="1" lang="en-GB" sz="2000" spc="-1" strike="noStrike">
                <a:solidFill>
                  <a:srgbClr val="66ffff"/>
                </a:solidFill>
                <a:latin typeface="Garamond"/>
                <a:ea typeface="Times New Roman"/>
              </a:rPr>
              <a:t>E-mail: aksrimany@rbi.org.in</a:t>
            </a:r>
            <a:endParaRPr b="1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143000" y="3961440"/>
            <a:ext cx="6934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sis of NRD-CSR Syst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DF project on NRD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SC recommendatio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road framework of NRD-CS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ree tier system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nkage between NRD-CSR and E-IB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AN environmen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lementable in any PC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acility to maintain more than one databas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ontributions in the development proces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oint collaboration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ank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serve Bank of India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overnment of India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ew features in Version 3.0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hange in IBS format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hanges in FCNR Deposit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ross-checking of branch data at controlling office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Generation of MIS reports at Head Offic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urrent issues and tasks ahead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36576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ore emphasis on quality aspects of data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centralization of training proces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tat Returns to be submitted to DESAC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Banks to make action plans to improve the data quality and coverag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95680" y="32004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ank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e01562_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154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cheme of the Presen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istorical Background of NRD-CSR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eed of systematic information on NRD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enesis of NRD-CSR System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oad framework of NRD-CSR System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tributions in the development proces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ew features in the Version 3.0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urrent Issues and tasks ahead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istorical Background of NRD - Flow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il Shocks in 1970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1991 BoP Crisis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ast Asian Crisi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nancial Reforms towards Deregulatio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il Shocks in 1970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PEC flush with fund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conomic boom in OPEC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nsequent demand of labour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igration of labour from India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troduction of new schem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991 BoP Crisis and East Asia Crisi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win Objectiv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aintaining capital flow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inging down effective cost of borrowing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mphasis on currency profile and maturity (original maturity) of NRD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eed of systematic information on NRD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Globalization of Economy and International Standard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mphasis on Macro-managemen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olicy formulatio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Globalization of Economy and International Standard</a:t>
            </a:r>
            <a:br>
              <a:rPr sz="2800"/>
            </a:b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imelines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eriodicity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verag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ransparency, etc.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mphasis on Macro-managemen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placement of FERA with FEMA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trol regime Vs liberalized situation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Necessity of more information to analyze the behaviour of the marke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olicy formul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netary Policy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xternal Debt Management Policy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aturity profile (original and residual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urrency composition (exchange risk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ank’s internal policy on liquidity risk , exchange rate risk and interest rate risk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1:03:11Z</dcterms:created>
  <dc:creator>Prithwis Jana</dc:creator>
  <dc:description/>
  <dc:language>en-US</dc:language>
  <cp:lastModifiedBy>user</cp:lastModifiedBy>
  <dcterms:modified xsi:type="dcterms:W3CDTF">2007-04-26T19:37:05Z</dcterms:modified>
  <cp:revision>142</cp:revision>
  <dc:subject/>
  <dc:title>PowerPoint Presentation</dc:title>
</cp:coreProperties>
</file>